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B1E841-1D68-4DE4-940B-1B2FB5E9B70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138D1D-9D18-47E7-8E21-DF6D8D64D6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CCC0A1-DAC4-4817-98A5-DD00784766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2D22AC-7EEE-4130-8323-C3A9E90A1D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EFD0-1DE9-4664-BBE0-0ADAB3985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ED96-D708-438A-A775-8EEC45935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FD2C-B05C-4FB6-9B41-328A6836A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B985-E7D5-47BF-B300-D40EA9C6E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4664-27E2-4CD4-9C10-47A2C15137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DF90-77B3-43B3-AF49-F46CEFC6A3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EF4D-161D-473A-81F6-D841558540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65E59-42FC-4C69-88C4-DCA04E9482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5438-518D-415A-9641-D07FB8EBB9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923E-0AA2-4708-85B6-FBD0C4344D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1FB1-8726-4CBE-99DF-D6333C24BD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C4F2-FAF6-428B-B25D-7B4FD8E9A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E5B3-3DE4-4D79-B76F-3B41FA2D1C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E105-E803-49E0-AD44-9CFC78D0BB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77FC-5FA8-420A-8F60-E73BE30EF9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4ADC-B47F-4344-A004-44697229D7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671F-58D4-42E4-9DDA-D8DA8AFD8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D9B5-DC6D-43C5-8EEE-B63934066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EA68-FC3A-4AEE-A9AF-568474DA9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BA9D-F352-42D6-9FAB-C27BAC3A4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42D8-2D83-4BFB-A004-F83E1301E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42E7-7117-47CB-B127-DC4D8893A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89DE-AACA-47C3-8B3F-F1B0FD44B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EFD8-E43D-43D2-99DD-CEFBFFFAA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636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6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335b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DE2B5B-73F9-4D47-9D04-A64410548DD1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335b7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1000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6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335b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dfe3e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fe3e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A82793-AE3B-4E70-BEB8-A97DE018DA59}" type="slidenum">
              <a:rPr b="0" lang="ru-RU" sz="1200" spc="-1" strike="noStrike">
                <a:solidFill>
                  <a:srgbClr val="ffffff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453440" y="4365720"/>
            <a:ext cx="1608120" cy="239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1557360"/>
            <a:ext cx="8964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ема: Бухгалтерський облік, його сутність і основи організації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54080" y="3206880"/>
            <a:ext cx="640728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 обліковими функціями бухгалтерський  облік поділяється 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9440" y="1414440"/>
            <a:ext cx="8785440" cy="477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475000" cy="1857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084720" y="1413000"/>
            <a:ext cx="1879920" cy="1879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nodeType="clickEffect" fill="hold">
                      <p:stCondLst>
                        <p:cond delay="0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Фінансовий облік —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584360"/>
            <a:ext cx="7925040" cy="44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nodeType="clickEffect" fill="hold">
                      <p:stCondLst>
                        <p:cond delay="0"/>
                      </p:stCondLst>
                      <p:childTnLst>
                        <p:par>
                          <p:cTn id="5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Податковий облік —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9160" y="1414440"/>
            <a:ext cx="7347240" cy="3529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88000" y="4797360"/>
            <a:ext cx="172908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nodeType="clickEffect" fill="hold">
                      <p:stCondLst>
                        <p:cond delay="0"/>
                      </p:stCondLst>
                      <p:childTnLst>
                        <p:par>
                          <p:cTn id="6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Управлінський облік —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2240" y="1620720"/>
            <a:ext cx="7578720" cy="44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nodeType="clickEffect" fill="hold">
                      <p:stCondLst>
                        <p:cond delay="0"/>
                      </p:stCondLst>
                      <p:childTnLst>
                        <p:par>
                          <p:cTn id="6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Завдання бухгалтерського облік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0960" y="1603440"/>
            <a:ext cx="805968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nodeType="clickEffect" fill="hold">
                      <p:stCondLst>
                        <p:cond delay="0"/>
                      </p:stCondLst>
                      <p:childTnLst>
                        <p:par>
                          <p:cTn id="7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Принципи бухгалтерського облік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0520" y="1335240"/>
            <a:ext cx="7980120" cy="47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nodeType="clickEffect" fill="hold">
                      <p:stCondLst>
                        <p:cond delay="0"/>
                      </p:stCondLst>
                      <p:childTnLst>
                        <p:par>
                          <p:cTn id="8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Вимоги до бухгалтерського обліку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1520" y="1341360"/>
            <a:ext cx="8254800" cy="453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nodeType="clickEffect" fill="hold">
                      <p:stCondLst>
                        <p:cond delay="0"/>
                      </p:stCondLst>
                      <p:childTnLst>
                        <p:par>
                          <p:cTn id="9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Бухгалтерський облі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74960" y="1596960"/>
            <a:ext cx="584676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nodeType="clickEffect" fill="hold">
                      <p:stCondLst>
                        <p:cond delay="0"/>
                      </p:stCondLst>
                      <p:childTnLst>
                        <p:par>
                          <p:cTn id="9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260280"/>
            <a:ext cx="820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dfe3e5"/>
                </a:solidFill>
                <a:latin typeface="Arial"/>
              </a:rPr>
              <a:t>Міжнародний герб бухгалтерів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6880" y="1468440"/>
            <a:ext cx="5844960" cy="477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590920" cy="295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-517680" y="1620720"/>
            <a:ext cx="3657600" cy="31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nodeType="clickEffect" fill="hold">
                      <p:stCondLst>
                        <p:cond delay="0"/>
                      </p:stCondLst>
                      <p:childTnLst>
                        <p:par>
                          <p:cTn id="10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uk-UA" sz="3600" spc="-1" strike="noStrike">
                <a:solidFill>
                  <a:srgbClr val="dfe3e5"/>
                </a:solidFill>
                <a:latin typeface="Arial"/>
              </a:rPr>
              <a:t>В процесі обліку використовують    такі види вимірників: </a:t>
            </a:r>
            <a:br>
              <a:rPr sz="3600"/>
            </a:br>
            <a:r>
              <a:rPr b="0" lang="ru-RU" sz="3200" spc="-1" strike="noStrike">
                <a:solidFill>
                  <a:srgbClr val="dfe3e5"/>
                </a:solidFill>
                <a:latin typeface="Arial"/>
              </a:rPr>
              <a:t>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3680" y="1481040"/>
            <a:ext cx="8210520" cy="4754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68680" y="3548160"/>
            <a:ext cx="4078440" cy="23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" y="1414440"/>
            <a:ext cx="5815080" cy="4462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26080" y="2481120"/>
            <a:ext cx="301788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dfe3e5"/>
                </a:solidFill>
                <a:latin typeface="Arial"/>
              </a:rPr>
              <a:t>Натуральні </a:t>
            </a: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вимірники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3565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55640" y="4367160"/>
            <a:ext cx="18669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3680" y="695160"/>
            <a:ext cx="8235720" cy="5540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357696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2548080" cy="1911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3360" y="1554120"/>
            <a:ext cx="7937280" cy="43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6720" y="1292400"/>
            <a:ext cx="8204400" cy="5565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Господарський облі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08400" y="1268280"/>
            <a:ext cx="6156000" cy="506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3880" y="1852560"/>
            <a:ext cx="205452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uk-UA" sz="4200" spc="-1" strike="noStrike">
                <a:solidFill>
                  <a:srgbClr val="dfe3e5"/>
                </a:solidFill>
                <a:latin typeface="Arial"/>
              </a:rPr>
              <a:t>Метою</a:t>
            </a:r>
            <a:r>
              <a:rPr b="0" lang="uk-UA" sz="4200" spc="-1" strike="noStrike">
                <a:solidFill>
                  <a:srgbClr val="dfe3e5"/>
                </a:solidFill>
                <a:latin typeface="Arial"/>
              </a:rPr>
              <a:t> господарського облі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414440"/>
            <a:ext cx="8285400" cy="4632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65440" y="4237200"/>
            <a:ext cx="3810240" cy="39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nodeType="clickEffect" fill="hold">
                      <p:stCondLst>
                        <p:cond delay="0"/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За видами господарський облік поділяється на: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9800" y="1603440"/>
            <a:ext cx="8498160" cy="455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305080" cy="198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nodeType="clickEffect" fill="hold">
                      <p:stCondLst>
                        <p:cond delay="0"/>
                      </p:stCondLst>
                      <p:childTnLst>
                        <p:par>
                          <p:cTn id="2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3360" y="1395360"/>
            <a:ext cx="757080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" y="1620720"/>
            <a:ext cx="799812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89000"/>
            <a:ext cx="80643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9147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Бухгалтерський облік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це процес безперервного виявлення, вимірювання, реєстрації, накопичення, узагальнення, зберігання та передачі інформації у вартісному вигляді про господарську діяльність підприємства зовнішнім та внутрішнім користувачам для прийняття рішен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29527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nodeType="clickEffect" fill="hold">
                      <p:stCondLst>
                        <p:cond delay="0"/>
                      </p:stCondLst>
                      <p:childTnLst>
                        <p:par>
                          <p:cTn id="3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228600"/>
            <a:ext cx="774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dfe3e5"/>
                </a:solidFill>
                <a:latin typeface="Arial"/>
              </a:rPr>
              <a:t>Бухгалтерський облік </a:t>
            </a:r>
            <a:r>
              <a:rPr b="0" lang="uk-UA" sz="2400" spc="-1" strike="noStrike">
                <a:solidFill>
                  <a:srgbClr val="dfe3e5"/>
                </a:solidFill>
                <a:latin typeface="Arial"/>
              </a:rPr>
              <a:t>у загальному циклі управління підприємством (планування — облік — аналіз — регулювання) виконує такі функції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9800" y="1914480"/>
            <a:ext cx="6766200" cy="410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7:04:55Z</dcterms:created>
  <dc:creator>one</dc:creator>
  <dc:description/>
  <dc:language>en-US</dc:language>
  <cp:lastModifiedBy>Ольга Іванівна</cp:lastModifiedBy>
  <dcterms:modified xsi:type="dcterms:W3CDTF">2019-10-23T08:57:21Z</dcterms:modified>
  <cp:revision>61</cp:revision>
  <dc:subject/>
  <dc:title>Т.1 Бухгалтерський облік його суть і основи організації</dc:title>
</cp:coreProperties>
</file>